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490-A687-4A5E-B294-ED70774F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890-CACA-4DE4-B3C0-80CEE38F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60D-42D6-415A-9334-893A9042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876-4BAE-4085-AEA7-B0052981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8A7-9065-4DFC-BE59-DA175745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C51-6BD4-4644-9E79-3781951B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D0B-B76B-4F07-9C0E-030D2D9F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A3C-BC98-46F4-AEE2-C1D4C242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904-69FC-41C1-A5CD-746EF489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882-78C3-4B52-A2B8-E5746234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53C-94F6-463E-8C07-787363CF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449-CB2E-4D0B-AC0D-9FD641B7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CB234-0F5B-4353-95B9-A96A45C9A6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y G. B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0640" y="2160720"/>
            <a:ext cx="6478560" cy="4171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36960" y="1600200"/>
            <a:ext cx="1548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Hon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 is for Vio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20680" y="360360"/>
            <a:ext cx="781524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9920" y="6103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y likes all the colors of the rainb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7120" y="360360"/>
            <a:ext cx="7002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my friend Roy G. Biv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50760" y="360360"/>
            <a:ext cx="815688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loves the colors in his na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5760" y="360360"/>
            <a:ext cx="788688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is f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03360" y="36036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is for O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0200" y="360360"/>
            <a:ext cx="739800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is for 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7120" y="360360"/>
            <a:ext cx="7002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 is for G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3640" y="360360"/>
            <a:ext cx="65325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is for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92120" y="360360"/>
            <a:ext cx="727560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992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is forInd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7120" y="360360"/>
            <a:ext cx="7002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ry Bishop</dc:creator>
  <dc:description/>
  <dc:language>en-US</dc:language>
  <cp:lastModifiedBy>marshallp</cp:lastModifiedBy>
  <dcterms:modified xsi:type="dcterms:W3CDTF">2009-11-03T16:21:14Z</dcterms:modified>
  <cp:revision>1</cp:revision>
  <dc:subject/>
  <dc:title>Roy G. Biv</dc:title>
</cp:coreProperties>
</file>